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6B3-AA80-48EA-AB46-8CA7E2A4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202-0E55-49FB-8CCA-40448F4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6BF-0386-46D5-B675-F02B826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546-7275-4428-A669-356D1EBF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287-AFD1-480F-B3A2-10BE0AD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833-1B5B-47E5-BF6E-9EA7F88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17D-A866-43A6-BDC5-D942F9D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228-38AC-45FC-BCB0-AF2756C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99F-CE8B-4FC0-ACAA-087C2CC4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495-362F-4CEE-B2CB-2F3A39A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757-EDD9-427D-BD24-29058B3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126-819C-4044-A2D9-3EB51D1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1D15-7DA8-4F50-A099-DBF06C0E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___                  Clase 7 IL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9 de noviembre del 20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para el examen del próximo vier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II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l futbol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swer in full Spanish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antos jugadores hay en el equipo de futbol? 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s tiempos hay en un partido de futbol? 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guarda la portería? 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Cuándo mete un gol el jugador? (cuando el balón entra en la porter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(un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En el estadio, ¿Qué indica el tanto? (el tablero indic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¿Cuándo queda empatado el tanto? (cuando los dos equipos tienen el mismo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V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baloncesto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 el baloncesto un deporte de equipo o un deporte individ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Hay cinco u once jugadores en el equipo de balonc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rante un partido de baloncesto, ¿los jugadores driblan con el balón o lanzan el balón con el p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El jugador tira el balón en el cesto o en la port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Marca un tanto cuando dribla o cuando enc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¿El encestado (canasto) vale dos puntos o s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éisb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ose the correct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uegan al béisbol en ____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 ca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una canch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un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l pícher ____ la pel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lanz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enc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b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l receptor atrapa la pelota e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un ces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un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l jugador _____ 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ti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devuel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el béisbol el jugador ____ robar una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pue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tiene 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un partido de béisbol  hay _____ ent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nue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-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3:29:36Z</dcterms:created>
  <dc:creator>Helen Zumaeta</dc:creator>
  <dc:description/>
  <dc:language>en-US</dc:language>
  <cp:lastModifiedBy>Helen Zumaeta</cp:lastModifiedBy>
  <dcterms:modified xsi:type="dcterms:W3CDTF">2012-11-08T16:08:46Z</dcterms:modified>
  <cp:revision>9</cp:revision>
  <dc:subject/>
  <dc:title>Me llamo _______  Clase 7 IM La fecha es el 11 de marzo del 2011</dc:title>
</cp:coreProperties>
</file>